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AE9C-9699-40AC-A265-89D96E4F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98DA-4A06-4634-9844-CA000397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4CEF7-DC29-433D-9858-6D2F525A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F2B4-BD18-4B5C-9665-714467CF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4005-8E44-4B3C-A579-15EE8136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8AAF-B069-4D4B-9332-0E93E48A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320C-E64D-491F-B6E7-631D69C8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1468-C2F5-4A33-9F08-44D129EE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1389-07E1-438C-B2F5-C13913AD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86E9-66B9-4EB9-9837-8B50076F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0026-DB7A-4883-96C8-BBAB99E6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EC85-DB3F-4B1A-BA0B-5D455711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D129-F9B1-4EBA-BBAE-164DDE7A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76F4-B726-4A0C-AFBA-8A23CEC1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2696-A6AA-42A9-A5EF-7B1D3F14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96CE-762E-4926-9DCE-6EAFEF4F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C456-7160-4C8B-9908-43EE4C02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02DC-EE54-41F8-B7BC-35A0A1BC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749D-98D1-4BD6-8E61-30610137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5382-02AC-4B93-B8E7-57A395B2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C384-7434-4E40-BCB5-EAF322FA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59F7-7E90-43D7-8AFC-48D65ACB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0018-1906-42B4-9262-0D319876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2B22-E02F-44A6-8F74-AB9FD3BF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37D8-481F-4F22-8782-299C5514986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3379-438E-4B73-937C-4CD3611C5F7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19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йте ангелския гл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 възпява вишний Княз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Слава в вишних Богу, е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ред благоволение!"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земята с небес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остно да пей хвал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Грешниче, стани, викни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Славний Спас се нам яви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ебесний лик възпя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ът вечен и блаж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чакван, веч дойд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открий спасени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девица се род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се въплатен яв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Поздравете Господ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то се всели в света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78920"/>
            <a:ext cx="896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л привет на вишний Княз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чна правда е за н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 яви видели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живот сред тъмнин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а земна Той презр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 кръст за нас умр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и вдигне от прах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избави от греха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йте ангелския гл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 възпява вишний Княз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10T08:41:17Z</dcterms:modified>
  <cp:revision>48</cp:revision>
  <dc:subject/>
  <dc:title>Slide 1</dc:title>
</cp:coreProperties>
</file>